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0D65-73AC-4814-857A-D0A8450418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391D-22AC-4A24-8AF6-5B3AE82B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AE8644-C621-45C4-B1D7-A128D2C5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A042B2-3BDC-4710-85A7-7752456C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D082AD-07CC-4803-AE78-20ED850D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E627F6-6F26-46F5-8747-B794B1CB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C25BDC-4F33-4719-A2A1-193B2867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D9ABD7-3626-4C81-93AB-D6A3743D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AC11D8-6FD4-4613-8750-5796CAEE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1D28BF-C208-4DB8-B9FD-62DF843C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30CEF9-D4A9-466C-ADFE-A57945D06D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C6139-E636-496E-9C72-896AE9054A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E3155-565A-462B-89EA-4C3DF61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64853-ACDE-4F85-B483-DA8799DA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32CE4-91E9-426F-9C78-1586197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B6FE0-50E2-4B48-852A-710D3FFD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E3BF1-F521-43CC-8165-7169F99C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421A0-EA9F-46FF-B137-0A96A468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286A6-5086-43DA-BB59-CF7855F1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F565A-AA4A-451D-866C-5FAB20C7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85045-9564-4BEA-8BDB-4C2A92C1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FD9ED-FA52-446C-B011-9FA450E1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8C879-E30B-4DA6-AAA5-39DE83D6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5E63-40B2-4F6C-96CD-0E3591EF2F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D9454-98D1-47C5-8721-6AB41A1823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81F19D-868F-47A2-8B82-E11E9471E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64C3A8-1DF7-4E72-A38B-2BF93AB3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187BA1-0854-4CC7-BF2F-1215E1E0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FC4978-BD8C-499B-9120-0985859A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3D9216-2F70-42C8-A093-25DB8431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2FDBF-FACA-4072-84AB-574A831A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ACEDEB-63E1-43AA-8F99-5D5F9DD9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D1FF91-8389-41E8-BA5D-30D2A805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2A4D72-3A51-4537-A697-9411F1D0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DE596-F6C0-4EFA-B379-C757535E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DB5649-2129-4C91-B955-394DB720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B52E91-DCB7-4AFF-BDDD-1DD213CC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E5A85C-2CE3-472C-B270-CD71590DE0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5D47E-9775-47FF-8301-A1ADF8B4BF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FA7FF-4F14-445F-A0B8-52369F10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69A87-0F8C-498B-B0D8-F8AFB5BF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BE70C-18CC-468B-A057-85084B48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03B67-C2D7-4FDD-8F4E-1B0BC135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C4177-F80E-4F11-BDE4-499A27A1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ED0C7-212D-482E-BA75-CD48BD19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5BEEC-7CC5-4C09-B839-693F297A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87F63-566B-4FA1-8989-775F2D3A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C930E-0996-41B5-BE58-0B80E1D3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FA464-3C20-458B-9577-9B221E8F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8E8C83-BEE7-470C-85B1-B1B68F9C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06679-5748-4387-8A6F-CCEB04CADA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7D430-307A-44E5-ACCF-C47861E914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AC3BD-47C5-44C4-9233-19321C7A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D905C-7B27-4E20-9BBC-05D3E570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D5C00-D161-4B94-9640-28C9A5AF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E76FE-CFBF-431F-A8E0-75561550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6D8BB-1F9E-4037-9773-7C7CB9EE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5D6A0-3DA6-4C71-B015-27F75CF0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CFB72-1731-4102-AA0D-A480AE87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6CB48-7E2B-43CE-BA14-D36EB416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37B6F-F07D-43C9-BBAC-6916AF8A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761D6-39EC-4697-9460-10573074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467B3-F969-41D7-A2F1-04C61015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0722E-1FC9-4969-8B85-B5B2EA7887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3FA28-BC91-48D8-891C-2A74FBEF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E71DB-C9CB-4798-BCD8-D16FB368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B557D-6465-4D0E-AAE5-B350F2D2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1CDE3-ABBE-48AD-8F1A-3601908C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D8A51-9988-4DB9-93B9-892E2317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669A6-F57B-4765-9E92-5DB7D40D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7840D-618A-4853-8F8D-94132919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35060-0867-429B-B83E-B3BEA98F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FDF75-819A-4908-82F2-588BEF10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10A94-7320-49DC-8D1B-EFEBC7C6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7FFD0-78C4-463C-96F2-FB12F331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7B5D9-97A6-49DF-92FD-F77F4DDD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B3E67-2281-4BDC-881F-A72AA0AC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926AB-3A8C-41B3-B2DA-CC025215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4B22F-04E1-47AF-BFA8-45C3384A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68412-B65D-431A-9742-637923AC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91FA0-C039-4B02-932B-4BA79507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534B5-7ADB-4ECB-BFC1-21C6B4EA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CB271-F03A-40A7-83D0-ACEDE42E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D962A-C1DC-46C4-AAB6-52EB1A09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5D7CE-A463-462D-BDC2-891412CA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111C7-0BD5-4BF7-BF69-0C060BA3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8326D-7902-4FEE-8A8F-EA61C15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3D307-4197-440D-ABFF-1EF5F666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BBBF1-238F-4E3F-9D17-18163ADE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E5F7F-9B3A-40FD-89EF-0F6CC91A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C51ED-02BD-4C81-851C-9D3F9780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69F9E-02EC-466D-87A3-65970F6D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FC8D9-29C7-45D0-836A-696EF045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1A3D4-7999-4297-837D-DAF71BFC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53E1F-454B-41CA-A659-B3FE2090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6A465-A231-4836-908D-4F7EDC17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FC59D-38B1-483A-A29E-F4DCEA17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7EDBA-DABC-46F8-A12C-FC613F52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2F9D2-21BC-4675-846A-60C9EDB4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0D68E-8EFE-45B2-B57E-825A3802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57B87-720F-44C5-9DFB-B6D22268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8AB81-B5D8-44B4-B15F-602EC5B3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9EC05-0359-4A26-9E48-8379A978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3DBC5-B4F5-411C-B62A-580BCE1C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29EE7-7042-4A3C-B320-1B2C2A35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8EE27-2223-447A-B317-EAAD898E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1C146-26AD-4AF7-BCC2-C97F4711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3DD94-2DDE-4757-984C-142A121A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7D6E3-C94D-4C09-A2D5-1FA7333D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7A3D2-0969-4727-A6AA-ED5B47D4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6418F-AD25-49F8-8241-7C926440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1585-7F4E-4B26-B00C-FFE6CCB6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270CD-2EB1-4472-ADC8-D0A9BAF3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06E63-7EE7-4616-AB33-EE9820CD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C0930-0EFB-447D-ABAE-FEB00780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4D97D-C906-4DBE-9440-AC86F376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3DD3A-53D1-43B7-BA39-9CC185EA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E7A14-039C-425F-B50E-D16B86F4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217CB-DAEE-414E-958F-4BD72C47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9754E-05D5-4224-91A4-167E6CF8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C0B03-EF18-430D-9CA9-C5C569C9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53D92-8AD4-438A-A962-728F0C51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C7713-C196-4114-B496-9585361D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02ADD-887B-4A16-9523-2821903B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012F9-647C-46A2-BBD6-74731B3C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A9719-8B1E-4E83-B3AC-58E729D5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692A1-1853-4382-AAF5-7C4341BF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0B78D-6933-496E-9D2D-7CA6796F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321BE-30DE-4DDD-9A01-08DF0D17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BFB2D-F2A7-4F89-B6B2-1406C169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9AB4D-E1C0-4346-A279-B5B2F701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496CB-A1D7-4163-A138-0F78450B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FC8D4-0B00-4DDA-ABFE-A4FBC390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69206-D2E3-42F1-9B39-2C5A70AE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DC337-73A4-4597-B597-93B20602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EB7EE-EF21-47BB-84F5-68126A6A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89619-B402-4319-9E98-AE5AC3C5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FF8EE-9D8C-4E43-B05F-4D99AF55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0C0BDD-14CE-4621-901F-BEEE0DD2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F2685-7CF1-455A-BF22-1E914C60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FDDD7-E98C-49AF-996B-2BDDD487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3F0AD-7074-4303-A7EA-3A1D98E4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AE4F0D-DC4E-46B5-B8AF-320ACFF5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16EF7-81DB-4A55-BB9A-9523F512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F1DA3-5D93-42B1-B5FA-A3C995BB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6A285-80AD-4E8C-A15D-18AD759F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3121A-1BC6-4E73-9CFC-AF8D618B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958537-B915-4C50-8276-ED278EC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01B72-AFAA-492B-96DA-F9A87774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BDE955-09BC-4197-9F27-5D2B4FAD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99718-F043-41E3-8AB9-16B0A604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ADD90-3125-413C-9501-8C8CFAC2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CB7F49-148D-4AE2-923C-D22CC2DC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FD46A-ACC2-4ABD-B520-153A8F8B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0D8C8C-0C55-485A-8AB5-28BBDDBE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3D53B-85DE-4E27-BB12-62B7EF4D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2C1CA-1D80-4679-8608-7B759ECC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DE808-704C-4DFA-84CD-F20028B7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6E6E2-749B-4240-82AD-ECF3F789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D7F7B-4193-4DB7-8DF1-52B96947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17E30-D2B5-45BC-A51D-0A5E136E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89EFA-B59D-4B8D-A801-170A3700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28DE6-874B-475A-9A4F-6BCD5268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F1B6C-B993-4D7F-B299-5C1EED45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AB13A-1C1F-46E2-88A1-53F43B8B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99EC4-2041-4B03-9D2B-9CBF0C23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EA7DC-DFB0-4E16-8ABE-13E7E754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7F000D-3134-42AD-AE5F-120C411032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D5DE5-B0D2-481F-B144-A15E8F8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EC1F7-46DC-4CD9-97A5-9841F028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B92D80-BC1D-497A-918B-860AE01C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00E830-393D-4C2A-9FE1-2D2536AD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08EB4-4197-417D-BA83-23505582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A24B4A-FF2D-41A8-A5FC-F9292745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3BAF1-300C-4A2C-B000-3B502DFC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5CC390-485A-49FF-8862-8436662D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A21E8B-1372-4FB4-8AD9-A61194F7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94154-E0B2-4E58-B6EF-D1886BF1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C015A0-9843-4BDA-A29E-55B41979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A8EF3F-8D2E-44F1-9534-7EB827DE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08A066-4FCA-4C82-9CBB-867C41D0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02DD17-B088-49D7-BD13-A0DFFE51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F43B5E-DFC2-4848-A814-62F7DF2F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58D7E-D9FE-45E4-AA6A-46FCD118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CEC4F9-FDBA-47CD-A801-7DA3A1B8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E7B70-3615-40AC-8ABE-63A58CFF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3BC2D-532A-4A1F-A6E3-E1D1C341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367931-2222-4C67-9554-1C0D201A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25557-0D85-4FA1-A36A-145E9ECE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D727E-6978-4C98-B2AF-33CA6BCD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929DE-2A37-4283-9C4C-B660EE2F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2BAB01-BB1E-49CA-B43F-AAAA09A6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4E150D-87B0-4A1F-929B-2B8585B2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95DE0-C151-44F5-B414-A184DC19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B7F55A-1FC4-4888-9695-0C456A13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64166-FA11-4745-B285-01982859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52F1C8-F8A1-49B8-9910-73301537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04B268-8460-4209-9CE0-85F85ABD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85E517-2385-410C-ADCD-5D360DE7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207E09-BDDB-41AF-B92E-0A26C99D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AD841-3455-4797-8242-0F33B2D1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E65E30-DD31-4119-827A-72AD1273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96355-29DA-4C9C-BFCE-4FA5E311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807C91-70B2-4AC3-B297-3AC06851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5CEA5-25FF-4AB9-893A-2171EC53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11B48-5DFB-4B79-B2F3-64EB54C2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6DF08-153B-4E46-8194-273F334A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5EA7FC-69E6-4A5A-BC7D-8698911F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7AD422-86A6-4B9A-91F0-43ACECE3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E966E1-AAFC-463B-8F0D-862ECFF9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84C62F-10DA-48D1-9D6C-F1E32F02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7C36-0FF8-4CFE-8BE3-DD41813B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8337F-31E1-46D7-8399-828FF4B6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2F3036-1B0A-4157-9B7F-49FD915E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F2B29C-A6E7-41C3-A2BA-001F30F5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DE970C-0D16-41C1-BBB8-02FE65A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36779B-103D-453E-B775-D234606F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73261-1E40-4D43-8632-AB8C9CA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8DBE44-00EA-4193-A069-8E90C88E7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23E4-4CDE-4C6B-84EE-FC26C95FF6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2D44-329D-4781-A12E-DE544315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96791-D183-4B99-80C3-AEDD88C4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45E9-7B2B-426D-A0C5-6CC894B0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A2A8-4F19-43A1-B327-B488F50B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83D0-438C-47FC-8FC9-3B58E423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1A97-92CB-4AD1-B723-EC4227B5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51E4-702E-4DD3-A41C-43FCC99C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D68C8-0C59-44BE-B636-89D5A1BF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BFD5-19FE-4274-988B-746897D7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8391-C6A3-417A-89A9-7DA04363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4FCDB-9227-40CF-8D95-BF44AA16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C7DF-691D-42C2-83D2-280727C520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956C4-C784-4BAA-AC59-8F54D3517A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D411-E4F2-46BE-8150-ED8A529A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3460C-98A0-4F72-BA1F-9DA5CF0F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9F001-1FBD-4004-9DD5-83555F03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CCEAE-3582-496E-8575-78DB09FB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E9419-E5A0-4945-9A72-619F8A0F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B1A13A-B148-4159-9BE4-007CBC2D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7CC68-FBB1-4A79-93C2-FD702DA2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C90244-29BD-4A7D-A610-9A068DAA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E5146-2438-4B3E-9FEB-91FDB430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97440D-F6F7-41BD-BCDA-AB418BF4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5FF16-8C75-431C-AAC9-27ABEB9F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575ED-8DB1-46CA-8778-B9FA63F4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A1D75-92BF-468A-A3BF-57077F4DC7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0A2CA1-C751-42C3-B24E-AF3E82E844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A92F92-B420-41D2-9D2B-EDE2B8C1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3D982A-BA22-4A34-9A08-993A1A7F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8F6497-C5A7-4B76-9F6A-7E119A39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22DBF2-6CE6-413D-9F96-D7AA955D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8658C4-F056-49F5-B982-E49F69C9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7E59CA-08F3-47ED-A1CC-D2DBFC45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F40031-68C5-4FA3-9D4A-DEEBD2A8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6378A3-DB48-4249-B7A7-99493A5F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7DF6-0748-4CE5-933E-CCE3FC83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BEAEAA-DCFE-46E6-B638-187217A4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181647-EA53-4E2A-95F9-DAC964C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EA3387-9A2B-4993-8D02-97207D5DE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3643-D0DA-4E6B-A7B9-FAFA349DD6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B6100-3F93-4CF9-B9C3-A740C3DE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143D9-1216-4809-89FA-30E40C61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A384-7117-44BD-AD26-A0B08C5F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F8498-655B-4ED6-BC5A-3556EDE4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E085-85F9-4507-AEA8-74496F5E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E4BB6-26EE-4163-967A-93153B14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6173-8AB3-474F-BB63-B1DCED7B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9495-D459-462C-A49C-D7C5F7A3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1FF49-7AE4-4912-9F13-A9501AD6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C2116-F0C0-4164-B582-E8E0D3B9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5FEF3-0A0B-410E-B767-3D02C415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AC40B-5344-411B-91FC-AB60A4F2B3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5D1B3-834E-48EC-A2D0-F41C11FB15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7256E-CF4D-4BD5-83D2-35796CD2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2B90E-3E15-43B0-B82D-523D7512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E63E4-186D-4851-937F-8AAAD987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B39F7-E614-446E-9FF3-6460AEEB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0F41-F038-4FDF-BBA2-0CABE9AD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B92056-F6FC-4319-8E27-6FEABFF2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7326E-A539-4296-9514-2ABBB667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79F26-D5E2-4D86-AD55-8AFDE696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156C7-C41D-4EE0-BAB0-C56404FA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F80368-A7A6-452D-B03F-4D8FB4FC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B6C11-D913-4C4E-B2B1-54930B93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354CA0-7C16-4A1C-B59D-333EF892DC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FBC375-D608-4B43-9789-3FDA38D4B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F443FA-9160-4B5A-86CB-8073AA28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29BF34-F0DC-41AE-905A-E947F217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DB12-5952-4B0E-9841-EAFBC9FD471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A5EB-51D5-4037-B152-A36A3D9CD72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4042-41C5-4457-8AD9-3FB3164543A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FD0E-AFF0-4C20-8FF1-80B056CEE7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86FC-BA6F-46E8-9856-2BF378546B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8D55-8626-4FDA-B1D3-A50BB835177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5CB2-778A-4837-8DB2-F9C097AB84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731D-9B82-4FC4-9F9E-92F563571C1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9E2E-196D-4DFC-9B34-D98EF741DDB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9452-A3ED-441D-8D89-60F5FEF57CC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0BBD-0C88-452B-A266-1BDC2DE083B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B742-1EAC-40A2-99B3-B0EC9FF63D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D481-0CD1-4457-A0C8-D5A015DEEFF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4D29-8596-4D5C-BB20-609486C118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D9E3-374D-4553-A863-928643D009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50FD-747E-4449-931F-AD452265A1A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0022-63D8-4AD0-A84D-6FE8B877BC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E434-329A-461C-8063-3303CB577F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CCF7-A078-4B12-9B1A-F95D3B2161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B167-C671-45CE-A2B6-806ECA943D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D3A7-1A3A-4594-8892-B196A8E51DE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A6EA-8424-458F-A624-1F8FEA55932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EFEE-5B7D-40C5-B79A-805BCA0C06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E19E-BCB6-4B0B-9B85-3F2F88EFA4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565280" y="2649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1" lang="zh-CN" sz="2600" spc="-1" strike="noStrike">
                <a:solidFill>
                  <a:srgbClr val="000000"/>
                </a:solidFill>
                <a:latin typeface="汉仪大宋简"/>
                <a:ea typeface="宋体"/>
              </a:rPr>
              <a:t>亿 以 上 数 的 写 法 及 改 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9"/>
          <p:cNvSpPr/>
          <p:nvPr/>
        </p:nvSpPr>
        <p:spPr>
          <a:xfrm>
            <a:off x="357120" y="841320"/>
            <a:ext cx="842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f0"/>
                </a:solidFill>
                <a:latin typeface="Calibri"/>
              </a:rPr>
              <a:t>         </a:t>
            </a:r>
            <a:r>
              <a:rPr b="1" lang="en-US" sz="2600" spc="-1" strike="noStrike">
                <a:solidFill>
                  <a:srgbClr val="00b0f0"/>
                </a:solidFill>
                <a:latin typeface="Calibri"/>
              </a:rPr>
              <a:t>1.</a:t>
            </a:r>
            <a:r>
              <a:rPr b="1" lang="zh-CN" sz="2600" spc="-1" strike="noStrike">
                <a:solidFill>
                  <a:srgbClr val="00b0f0"/>
                </a:solidFill>
                <a:latin typeface="Calibri"/>
                <a:ea typeface="宋体"/>
              </a:rPr>
              <a:t>北京每年因漏水浪费水资源</a:t>
            </a:r>
            <a:r>
              <a:rPr b="1" lang="en-US" sz="2600" spc="-1" strike="noStrike">
                <a:solidFill>
                  <a:srgbClr val="00b0f0"/>
                </a:solidFill>
                <a:latin typeface="Calibri"/>
              </a:rPr>
              <a:t>100000000</a:t>
            </a:r>
            <a:r>
              <a:rPr b="1" lang="zh-CN" sz="2600" spc="-1" strike="noStrike">
                <a:solidFill>
                  <a:srgbClr val="00b0f0"/>
                </a:solidFill>
                <a:latin typeface="Calibri"/>
                <a:ea typeface="宋体"/>
              </a:rPr>
              <a:t>立方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b0f0"/>
                </a:solidFill>
                <a:latin typeface="Calibri"/>
                <a:ea typeface="宋体"/>
              </a:rPr>
              <a:t>         </a:t>
            </a:r>
            <a:r>
              <a:rPr b="1" lang="en-US" sz="2600" spc="-1" strike="noStrike">
                <a:solidFill>
                  <a:srgbClr val="00b0f0"/>
                </a:solidFill>
                <a:latin typeface="Calibri"/>
              </a:rPr>
              <a:t>2.</a:t>
            </a:r>
            <a:r>
              <a:rPr b="1" lang="zh-CN" sz="2600" spc="-1" strike="noStrike">
                <a:solidFill>
                  <a:srgbClr val="00b0f0"/>
                </a:solidFill>
                <a:latin typeface="Calibri"/>
                <a:ea typeface="宋体"/>
              </a:rPr>
              <a:t>北京每年因漏水浪费水资源</a:t>
            </a:r>
            <a:r>
              <a:rPr b="1" lang="en-US" sz="2600" spc="-1" strike="noStrike">
                <a:solidFill>
                  <a:srgbClr val="00b0f0"/>
                </a:solidFill>
                <a:latin typeface="Calibri"/>
              </a:rPr>
              <a:t>1</a:t>
            </a:r>
            <a:r>
              <a:rPr b="1" lang="zh-CN" sz="2600" spc="-1" strike="noStrike">
                <a:solidFill>
                  <a:srgbClr val="00b0f0"/>
                </a:solidFill>
                <a:latin typeface="Calibri"/>
                <a:ea typeface="宋体"/>
              </a:rPr>
              <a:t>亿立方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10"/>
          <p:cNvSpPr/>
          <p:nvPr/>
        </p:nvSpPr>
        <p:spPr>
          <a:xfrm>
            <a:off x="357120" y="2060640"/>
            <a:ext cx="8429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观察、比较、对于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00000000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亿两种记录形式，你有什么发现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11"/>
          <p:cNvSpPr/>
          <p:nvPr/>
        </p:nvSpPr>
        <p:spPr>
          <a:xfrm>
            <a:off x="1147680" y="3127320"/>
            <a:ext cx="395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Calibri"/>
                <a:ea typeface="宋体"/>
              </a:rPr>
              <a:t>计数单位不同：个，亿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Calibri"/>
                <a:ea typeface="宋体"/>
              </a:rPr>
              <a:t>数值相同：大小相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12"/>
          <p:cNvSpPr/>
          <p:nvPr/>
        </p:nvSpPr>
        <p:spPr>
          <a:xfrm>
            <a:off x="457200" y="4879800"/>
            <a:ext cx="8429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zh-CN" sz="2600" spc="-1" strike="noStrike">
                <a:solidFill>
                  <a:srgbClr val="ff0000"/>
                </a:solidFill>
                <a:latin typeface="Calibri"/>
                <a:ea typeface="宋体"/>
              </a:rPr>
              <a:t>为了读、写、算时更加方便，我们常常会把这样的大数改写成用“亿”作单位的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1"/>
          <p:cNvSpPr/>
          <p:nvPr/>
        </p:nvSpPr>
        <p:spPr>
          <a:xfrm>
            <a:off x="1096920" y="1224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71686"/>
          <p:cNvSpPr/>
          <p:nvPr/>
        </p:nvSpPr>
        <p:spPr>
          <a:xfrm>
            <a:off x="1975320" y="4317840"/>
            <a:ext cx="295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两种方法你喜欢哪种？为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文本框 67585"/>
          <p:cNvSpPr/>
          <p:nvPr/>
        </p:nvSpPr>
        <p:spPr>
          <a:xfrm>
            <a:off x="3216960" y="1905120"/>
            <a:ext cx="592596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千 百 十 亿   千 百 十 万   千 百 十 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亿 亿 亿        万 万 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位 位 位 位   位 位 位 位   位 位 位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    0   0  0   0     0  0   0 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 0     9   0  0   0     0  0   0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3123720" y="3352320"/>
            <a:ext cx="5868000" cy="360"/>
            <a:chOff x="3123720" y="3352320"/>
            <a:chExt cx="5868000" cy="360"/>
          </a:xfrm>
        </p:grpSpPr>
        <p:sp>
          <p:nvSpPr>
            <p:cNvPr id="1017" name="直接连接符 67586"/>
            <p:cNvSpPr/>
            <p:nvPr/>
          </p:nvSpPr>
          <p:spPr>
            <a:xfrm>
              <a:off x="3124080" y="33526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 txBox="1"/>
            <p:nvPr/>
          </p:nvSpPr>
          <p:spPr>
            <a:xfrm rot="10800000">
              <a:off x="3123720" y="3351960"/>
              <a:ext cx="586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5181480" y="1928880"/>
            <a:ext cx="360" cy="3633840"/>
            <a:chOff x="5181480" y="1928880"/>
            <a:chExt cx="360" cy="3633840"/>
          </a:xfrm>
        </p:grpSpPr>
        <p:sp>
          <p:nvSpPr>
            <p:cNvPr id="1020" name="直接连接符 67587"/>
            <p:cNvSpPr/>
            <p:nvPr/>
          </p:nvSpPr>
          <p:spPr>
            <a:xfrm>
              <a:off x="5181480" y="1928880"/>
              <a:ext cx="0" cy="3633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 txBox="1"/>
            <p:nvPr/>
          </p:nvSpPr>
          <p:spPr>
            <a:xfrm>
              <a:off x="5181480" y="1928880"/>
              <a:ext cx="360" cy="36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7162920" y="1905120"/>
            <a:ext cx="360" cy="3657600"/>
            <a:chOff x="7162920" y="1905120"/>
            <a:chExt cx="360" cy="3657600"/>
          </a:xfrm>
        </p:grpSpPr>
        <p:sp>
          <p:nvSpPr>
            <p:cNvPr id="1023" name="直接连接符 67588"/>
            <p:cNvSpPr/>
            <p:nvPr/>
          </p:nvSpPr>
          <p:spPr>
            <a:xfrm>
              <a:off x="7162920" y="190512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 txBox="1"/>
            <p:nvPr/>
          </p:nvSpPr>
          <p:spPr>
            <a:xfrm>
              <a:off x="7162920" y="1905120"/>
              <a:ext cx="36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文本框 67589"/>
          <p:cNvSpPr/>
          <p:nvPr/>
        </p:nvSpPr>
        <p:spPr>
          <a:xfrm>
            <a:off x="2221200" y="8413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写出下面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67590"/>
          <p:cNvSpPr/>
          <p:nvPr/>
        </p:nvSpPr>
        <p:spPr>
          <a:xfrm>
            <a:off x="635040" y="3394080"/>
            <a:ext cx="2314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十亿九千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七千零三亿零二十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7591"/>
          <p:cNvSpPr/>
          <p:nvPr/>
        </p:nvSpPr>
        <p:spPr>
          <a:xfrm>
            <a:off x="3421440" y="487692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  0  0  3     0   0  2   0     0  0   0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八边形 7"/>
          <p:cNvSpPr/>
          <p:nvPr/>
        </p:nvSpPr>
        <p:spPr>
          <a:xfrm>
            <a:off x="449280" y="85248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Box 7"/>
          <p:cNvSpPr/>
          <p:nvPr/>
        </p:nvSpPr>
        <p:spPr>
          <a:xfrm>
            <a:off x="685800" y="7621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总结方法：亿以上的数怎么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8610"/>
          <p:cNvSpPr/>
          <p:nvPr/>
        </p:nvSpPr>
        <p:spPr>
          <a:xfrm>
            <a:off x="1219320" y="200988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先看这个数有几级，再从最高级写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68611"/>
          <p:cNvSpPr/>
          <p:nvPr/>
        </p:nvSpPr>
        <p:spPr>
          <a:xfrm>
            <a:off x="4572000" y="1905120"/>
            <a:ext cx="3352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哪个数位上一个单位也没有，就在那个数位上写</a:t>
            </a:r>
            <a:r>
              <a:rPr b="1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图片 68612" descr="E:\2017秋上·黄倩\其他\人\蜜蜂.gif蜜蜂"/>
          <p:cNvPicPr/>
          <p:nvPr/>
        </p:nvPicPr>
        <p:blipFill>
          <a:blip r:embed="rId1"/>
          <a:stretch/>
        </p:blipFill>
        <p:spPr>
          <a:xfrm>
            <a:off x="7924680" y="3200400"/>
            <a:ext cx="933480" cy="102708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68613" descr="E:\2017秋上·黄倩\其他\人\海豚.jpg海豚"/>
          <p:cNvPicPr/>
          <p:nvPr/>
        </p:nvPicPr>
        <p:blipFill>
          <a:blip r:embed="rId2"/>
          <a:stretch/>
        </p:blipFill>
        <p:spPr>
          <a:xfrm>
            <a:off x="349200" y="3581280"/>
            <a:ext cx="901800" cy="1095480"/>
          </a:xfrm>
          <a:prstGeom prst="rect">
            <a:avLst/>
          </a:prstGeom>
          <a:ln w="0">
            <a:noFill/>
          </a:ln>
        </p:spPr>
      </p:pic>
      <p:sp>
        <p:nvSpPr>
          <p:cNvPr id="1034" name="圆角矩形标注 68614"/>
          <p:cNvSpPr/>
          <p:nvPr/>
        </p:nvSpPr>
        <p:spPr>
          <a:xfrm>
            <a:off x="990720" y="1981080"/>
            <a:ext cx="2895480" cy="1371600"/>
          </a:xfrm>
          <a:prstGeom prst="wedgeRoundRectCallout">
            <a:avLst>
              <a:gd name="adj1" fmla="val -34592"/>
              <a:gd name="adj2" fmla="val 719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圆角矩形标注 68615"/>
          <p:cNvSpPr/>
          <p:nvPr/>
        </p:nvSpPr>
        <p:spPr>
          <a:xfrm>
            <a:off x="4419720" y="1959120"/>
            <a:ext cx="3504960" cy="1469880"/>
          </a:xfrm>
          <a:prstGeom prst="wedgeRoundRectCallout">
            <a:avLst>
              <a:gd name="adj1" fmla="val 42662"/>
              <a:gd name="adj2" fmla="val 66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7" name="内容占位符 2"/>
          <p:cNvSpPr/>
          <p:nvPr/>
        </p:nvSpPr>
        <p:spPr>
          <a:xfrm>
            <a:off x="455760" y="1428840"/>
            <a:ext cx="4952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0000000=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00000000=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 ）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30500000000=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 ）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72710"/>
          <p:cNvSpPr/>
          <p:nvPr/>
        </p:nvSpPr>
        <p:spPr>
          <a:xfrm>
            <a:off x="2952720" y="92376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下面各数改写成用“亿”作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21"/>
          <p:cNvSpPr/>
          <p:nvPr/>
        </p:nvSpPr>
        <p:spPr>
          <a:xfrm>
            <a:off x="161892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八边形 7"/>
          <p:cNvSpPr/>
          <p:nvPr/>
        </p:nvSpPr>
        <p:spPr>
          <a:xfrm>
            <a:off x="374760" y="85104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组合 1"/>
          <p:cNvGrpSpPr/>
          <p:nvPr/>
        </p:nvGrpSpPr>
        <p:grpSpPr>
          <a:xfrm>
            <a:off x="425520" y="4192560"/>
            <a:ext cx="1886040" cy="459720"/>
            <a:chOff x="425520" y="4192560"/>
            <a:chExt cx="1886040" cy="459720"/>
          </a:xfrm>
        </p:grpSpPr>
        <p:sp>
          <p:nvSpPr>
            <p:cNvPr id="1052" name="TextBox 3"/>
            <p:cNvSpPr/>
            <p:nvPr/>
          </p:nvSpPr>
          <p:spPr>
            <a:xfrm>
              <a:off x="530280" y="4192560"/>
              <a:ext cx="17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缺角矩形 37"/>
            <p:cNvSpPr/>
            <p:nvPr/>
          </p:nvSpPr>
          <p:spPr>
            <a:xfrm>
              <a:off x="425520" y="4313160"/>
              <a:ext cx="216000" cy="215640"/>
            </a:xfrm>
            <a:custGeom>
              <a:avLst/>
              <a:gdLst>
                <a:gd name="textAreaLeft" fmla="*/ 25200 w 216000"/>
                <a:gd name="textAreaRight" fmla="*/ 190800 w 21600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36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36" y="21600"/>
                  </a:lnTo>
                  <a:arcTo wR="3600" hR="3600" stAng="10800000" swAng="5400000"/>
                  <a:lnTo>
                    <a:pt x="21636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文本框 3"/>
          <p:cNvSpPr/>
          <p:nvPr/>
        </p:nvSpPr>
        <p:spPr>
          <a:xfrm>
            <a:off x="511200" y="462132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出的这三个数都是整亿数，把整亿数改写成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单位的数，就是把计数单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写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5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6" name="文本框 72711"/>
          <p:cNvSpPr/>
          <p:nvPr/>
        </p:nvSpPr>
        <p:spPr>
          <a:xfrm>
            <a:off x="568440" y="1387440"/>
            <a:ext cx="7391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改写方法：</a:t>
            </a: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改写成用“亿”作单位的数，先分级，再去掉万级和个级的</a:t>
            </a:r>
            <a:r>
              <a:rPr b="1" lang="en-US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，加上一个“亿”字就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21"/>
          <p:cNvSpPr/>
          <p:nvPr/>
        </p:nvSpPr>
        <p:spPr>
          <a:xfrm>
            <a:off x="161892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38"/>
          <p:cNvGrpSpPr/>
          <p:nvPr/>
        </p:nvGrpSpPr>
        <p:grpSpPr>
          <a:xfrm>
            <a:off x="336600" y="878040"/>
            <a:ext cx="2147400" cy="459720"/>
            <a:chOff x="336600" y="878040"/>
            <a:chExt cx="2147400" cy="459720"/>
          </a:xfrm>
        </p:grpSpPr>
        <p:sp>
          <p:nvSpPr>
            <p:cNvPr id="1069" name="TextBox 3"/>
            <p:cNvSpPr/>
            <p:nvPr/>
          </p:nvSpPr>
          <p:spPr>
            <a:xfrm>
              <a:off x="441000" y="87804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缺角矩形 40"/>
            <p:cNvSpPr/>
            <p:nvPr/>
          </p:nvSpPr>
          <p:spPr>
            <a:xfrm>
              <a:off x="336600" y="99864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组合 1"/>
          <p:cNvGrpSpPr/>
          <p:nvPr/>
        </p:nvGrpSpPr>
        <p:grpSpPr>
          <a:xfrm>
            <a:off x="361800" y="2558880"/>
            <a:ext cx="2122200" cy="459720"/>
            <a:chOff x="361800" y="2558880"/>
            <a:chExt cx="2122200" cy="459720"/>
          </a:xfrm>
        </p:grpSpPr>
        <p:sp>
          <p:nvSpPr>
            <p:cNvPr id="1072" name="TextBox 3"/>
            <p:cNvSpPr/>
            <p:nvPr/>
          </p:nvSpPr>
          <p:spPr>
            <a:xfrm>
              <a:off x="439560" y="2558880"/>
              <a:ext cx="20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改写过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缺角矩形 3"/>
            <p:cNvSpPr/>
            <p:nvPr/>
          </p:nvSpPr>
          <p:spPr>
            <a:xfrm>
              <a:off x="361800" y="267948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文本框 4"/>
          <p:cNvSpPr/>
          <p:nvPr/>
        </p:nvSpPr>
        <p:spPr>
          <a:xfrm>
            <a:off x="488880" y="311292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8"/>
          <p:cNvSpPr/>
          <p:nvPr/>
        </p:nvSpPr>
        <p:spPr>
          <a:xfrm>
            <a:off x="2975040" y="311292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9"/>
          <p:cNvSpPr/>
          <p:nvPr/>
        </p:nvSpPr>
        <p:spPr>
          <a:xfrm>
            <a:off x="5678640" y="3112920"/>
            <a:ext cx="32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05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组合 24"/>
          <p:cNvGrpSpPr/>
          <p:nvPr/>
        </p:nvGrpSpPr>
        <p:grpSpPr>
          <a:xfrm>
            <a:off x="843120" y="3495240"/>
            <a:ext cx="1331640" cy="883080"/>
            <a:chOff x="843120" y="3495240"/>
            <a:chExt cx="1331640" cy="883080"/>
          </a:xfrm>
        </p:grpSpPr>
        <p:grpSp>
          <p:nvGrpSpPr>
            <p:cNvPr id="1078" name="组合 18"/>
            <p:cNvGrpSpPr/>
            <p:nvPr/>
          </p:nvGrpSpPr>
          <p:grpSpPr>
            <a:xfrm>
              <a:off x="843120" y="3495240"/>
              <a:ext cx="1331640" cy="460800"/>
              <a:chOff x="843120" y="3495240"/>
              <a:chExt cx="1331640" cy="460800"/>
            </a:xfrm>
          </p:grpSpPr>
          <p:sp>
            <p:nvSpPr>
              <p:cNvPr id="1079" name="直接连接符 10"/>
              <p:cNvSpPr/>
              <p:nvPr/>
            </p:nvSpPr>
            <p:spPr>
              <a:xfrm>
                <a:off x="843120" y="3495960"/>
                <a:ext cx="1331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80" name="直接箭头连接符 15"/>
              <p:cNvCxnSpPr/>
              <p:nvPr/>
            </p:nvCxnSpPr>
            <p:spPr>
              <a:xfrm>
                <a:off x="1495440" y="3495240"/>
                <a:ext cx="1080" cy="4611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  <p:sp>
          <p:nvSpPr>
            <p:cNvPr id="1081" name="文本框 21"/>
            <p:cNvSpPr/>
            <p:nvPr/>
          </p:nvSpPr>
          <p:spPr>
            <a:xfrm>
              <a:off x="1230840" y="39186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组合 25"/>
          <p:cNvGrpSpPr/>
          <p:nvPr/>
        </p:nvGrpSpPr>
        <p:grpSpPr>
          <a:xfrm>
            <a:off x="3487680" y="3495240"/>
            <a:ext cx="1332000" cy="883080"/>
            <a:chOff x="3487680" y="3495240"/>
            <a:chExt cx="1332000" cy="883080"/>
          </a:xfrm>
        </p:grpSpPr>
        <p:grpSp>
          <p:nvGrpSpPr>
            <p:cNvPr id="1083" name="组合 19"/>
            <p:cNvGrpSpPr/>
            <p:nvPr/>
          </p:nvGrpSpPr>
          <p:grpSpPr>
            <a:xfrm>
              <a:off x="3487680" y="3495240"/>
              <a:ext cx="1332000" cy="460800"/>
              <a:chOff x="3487680" y="3495240"/>
              <a:chExt cx="1332000" cy="460800"/>
            </a:xfrm>
          </p:grpSpPr>
          <p:sp>
            <p:nvSpPr>
              <p:cNvPr id="1084" name="直接连接符 12"/>
              <p:cNvSpPr/>
              <p:nvPr/>
            </p:nvSpPr>
            <p:spPr>
              <a:xfrm>
                <a:off x="3487680" y="3495960"/>
                <a:ext cx="133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85" name="直接箭头连接符 16"/>
              <p:cNvCxnSpPr/>
              <p:nvPr/>
            </p:nvCxnSpPr>
            <p:spPr>
              <a:xfrm>
                <a:off x="4166280" y="3495240"/>
                <a:ext cx="1080" cy="4611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  <p:sp>
          <p:nvSpPr>
            <p:cNvPr id="1086" name="文本框 22"/>
            <p:cNvSpPr/>
            <p:nvPr/>
          </p:nvSpPr>
          <p:spPr>
            <a:xfrm>
              <a:off x="3900240" y="3918600"/>
              <a:ext cx="53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组合 26"/>
          <p:cNvGrpSpPr/>
          <p:nvPr/>
        </p:nvGrpSpPr>
        <p:grpSpPr>
          <a:xfrm>
            <a:off x="6553080" y="3495240"/>
            <a:ext cx="1333800" cy="883080"/>
            <a:chOff x="6553080" y="3495240"/>
            <a:chExt cx="1333800" cy="883080"/>
          </a:xfrm>
        </p:grpSpPr>
        <p:grpSp>
          <p:nvGrpSpPr>
            <p:cNvPr id="1088" name="组合 20"/>
            <p:cNvGrpSpPr/>
            <p:nvPr/>
          </p:nvGrpSpPr>
          <p:grpSpPr>
            <a:xfrm>
              <a:off x="6553080" y="3495240"/>
              <a:ext cx="1333800" cy="460800"/>
              <a:chOff x="6553080" y="3495240"/>
              <a:chExt cx="1333800" cy="460800"/>
            </a:xfrm>
          </p:grpSpPr>
          <p:sp>
            <p:nvSpPr>
              <p:cNvPr id="1089" name="直接连接符 14"/>
              <p:cNvSpPr/>
              <p:nvPr/>
            </p:nvSpPr>
            <p:spPr>
              <a:xfrm>
                <a:off x="6553080" y="3495960"/>
                <a:ext cx="1333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0" name="直接箭头连接符 17"/>
              <p:cNvCxnSpPr/>
              <p:nvPr/>
            </p:nvCxnSpPr>
            <p:spPr>
              <a:xfrm>
                <a:off x="7215840" y="3495240"/>
                <a:ext cx="1080" cy="4611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  <p:sp>
          <p:nvSpPr>
            <p:cNvPr id="1091" name="文本框 23"/>
            <p:cNvSpPr/>
            <p:nvPr/>
          </p:nvSpPr>
          <p:spPr>
            <a:xfrm>
              <a:off x="6958440" y="39186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文本框 27"/>
          <p:cNvSpPr/>
          <p:nvPr/>
        </p:nvSpPr>
        <p:spPr>
          <a:xfrm>
            <a:off x="318960" y="4341960"/>
            <a:ext cx="27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00000=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28"/>
          <p:cNvSpPr/>
          <p:nvPr/>
        </p:nvSpPr>
        <p:spPr>
          <a:xfrm>
            <a:off x="2787480" y="4341960"/>
            <a:ext cx="27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00000=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35"/>
          <p:cNvSpPr/>
          <p:nvPr/>
        </p:nvSpPr>
        <p:spPr>
          <a:xfrm>
            <a:off x="5559480" y="434196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0500000000=53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6" name="TextBox 7"/>
          <p:cNvSpPr/>
          <p:nvPr/>
        </p:nvSpPr>
        <p:spPr>
          <a:xfrm>
            <a:off x="5943600" y="917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7"/>
          <p:cNvSpPr/>
          <p:nvPr/>
        </p:nvSpPr>
        <p:spPr>
          <a:xfrm>
            <a:off x="5924520" y="1450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90006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Box 7"/>
          <p:cNvSpPr/>
          <p:nvPr/>
        </p:nvSpPr>
        <p:spPr>
          <a:xfrm>
            <a:off x="5837400" y="205272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0407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7"/>
          <p:cNvSpPr/>
          <p:nvPr/>
        </p:nvSpPr>
        <p:spPr>
          <a:xfrm>
            <a:off x="609480" y="2644920"/>
            <a:ext cx="800100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下面各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三十                     三十万                      三十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百零七             一百零七万              一百零七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九千二百             九千二百万              九千二百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73733"/>
          <p:cNvSpPr/>
          <p:nvPr/>
        </p:nvSpPr>
        <p:spPr>
          <a:xfrm>
            <a:off x="609480" y="725400"/>
            <a:ext cx="6019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二十五亿                        写作：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四百九十亿零六十万      写作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五千零四亿零七百万      写作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5562720" y="1298520"/>
            <a:ext cx="2743200" cy="360"/>
            <a:chOff x="5562720" y="1298520"/>
            <a:chExt cx="2743200" cy="360"/>
          </a:xfrm>
        </p:grpSpPr>
        <p:sp>
          <p:nvSpPr>
            <p:cNvPr id="1112" name="直接连接符 73734"/>
            <p:cNvSpPr/>
            <p:nvPr/>
          </p:nvSpPr>
          <p:spPr>
            <a:xfrm>
              <a:off x="5562720" y="12985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 txBox="1"/>
            <p:nvPr/>
          </p:nvSpPr>
          <p:spPr>
            <a:xfrm>
              <a:off x="5562720" y="129852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562720" y="1832040"/>
            <a:ext cx="2743200" cy="360"/>
            <a:chOff x="5562720" y="1832040"/>
            <a:chExt cx="2743200" cy="360"/>
          </a:xfrm>
        </p:grpSpPr>
        <p:sp>
          <p:nvSpPr>
            <p:cNvPr id="1115" name="直接连接符 73735"/>
            <p:cNvSpPr/>
            <p:nvPr/>
          </p:nvSpPr>
          <p:spPr>
            <a:xfrm>
              <a:off x="5562720" y="18320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 txBox="1"/>
            <p:nvPr/>
          </p:nvSpPr>
          <p:spPr>
            <a:xfrm>
              <a:off x="5562720" y="183204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562720" y="2441520"/>
            <a:ext cx="2743200" cy="360"/>
            <a:chOff x="5562720" y="2441520"/>
            <a:chExt cx="2743200" cy="360"/>
          </a:xfrm>
        </p:grpSpPr>
        <p:sp>
          <p:nvSpPr>
            <p:cNvPr id="1118" name="直接连接符 73736"/>
            <p:cNvSpPr/>
            <p:nvPr/>
          </p:nvSpPr>
          <p:spPr>
            <a:xfrm>
              <a:off x="5562720" y="24415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5562720" y="244152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Rectangle 64"/>
          <p:cNvSpPr/>
          <p:nvPr/>
        </p:nvSpPr>
        <p:spPr>
          <a:xfrm>
            <a:off x="380880" y="230040"/>
            <a:ext cx="2789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73739"/>
          <p:cNvSpPr/>
          <p:nvPr/>
        </p:nvSpPr>
        <p:spPr>
          <a:xfrm>
            <a:off x="1637280" y="38419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73740"/>
          <p:cNvSpPr/>
          <p:nvPr/>
        </p:nvSpPr>
        <p:spPr>
          <a:xfrm>
            <a:off x="3766680" y="3841920"/>
            <a:ext cx="14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73741"/>
          <p:cNvSpPr/>
          <p:nvPr/>
        </p:nvSpPr>
        <p:spPr>
          <a:xfrm>
            <a:off x="1638360" y="4741920"/>
            <a:ext cx="10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73742"/>
          <p:cNvSpPr/>
          <p:nvPr/>
        </p:nvSpPr>
        <p:spPr>
          <a:xfrm>
            <a:off x="6205320" y="38275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73743"/>
          <p:cNvSpPr/>
          <p:nvPr/>
        </p:nvSpPr>
        <p:spPr>
          <a:xfrm>
            <a:off x="3773160" y="474192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7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73744"/>
          <p:cNvSpPr/>
          <p:nvPr/>
        </p:nvSpPr>
        <p:spPr>
          <a:xfrm>
            <a:off x="6231600" y="47419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7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73745"/>
          <p:cNvSpPr/>
          <p:nvPr/>
        </p:nvSpPr>
        <p:spPr>
          <a:xfrm>
            <a:off x="1638720" y="5580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73746"/>
          <p:cNvSpPr/>
          <p:nvPr/>
        </p:nvSpPr>
        <p:spPr>
          <a:xfrm>
            <a:off x="3773520" y="558000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2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73747"/>
          <p:cNvSpPr/>
          <p:nvPr/>
        </p:nvSpPr>
        <p:spPr>
          <a:xfrm>
            <a:off x="6212880" y="5580000"/>
            <a:ext cx="21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200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Box 7"/>
          <p:cNvSpPr/>
          <p:nvPr/>
        </p:nvSpPr>
        <p:spPr>
          <a:xfrm>
            <a:off x="685800" y="990720"/>
            <a:ext cx="701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方正书宋简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把下面各数改写成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作单位的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6"/>
          <p:cNvSpPr/>
          <p:nvPr/>
        </p:nvSpPr>
        <p:spPr>
          <a:xfrm>
            <a:off x="614520" y="1523880"/>
            <a:ext cx="464328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60000000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亿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705000000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206000000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亿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58000000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74755"/>
          <p:cNvSpPr/>
          <p:nvPr/>
        </p:nvSpPr>
        <p:spPr>
          <a:xfrm>
            <a:off x="3658680" y="1828800"/>
            <a:ext cx="73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74756"/>
          <p:cNvSpPr/>
          <p:nvPr/>
        </p:nvSpPr>
        <p:spPr>
          <a:xfrm>
            <a:off x="3658680" y="2635200"/>
            <a:ext cx="73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7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74757"/>
          <p:cNvSpPr/>
          <p:nvPr/>
        </p:nvSpPr>
        <p:spPr>
          <a:xfrm>
            <a:off x="3728520" y="3397320"/>
            <a:ext cx="91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12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74758"/>
          <p:cNvSpPr/>
          <p:nvPr/>
        </p:nvSpPr>
        <p:spPr>
          <a:xfrm>
            <a:off x="3659040" y="4235400"/>
            <a:ext cx="5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5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7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32"/>
          <p:cNvSpPr/>
          <p:nvPr/>
        </p:nvSpPr>
        <p:spPr>
          <a:xfrm>
            <a:off x="293760" y="3260880"/>
            <a:ext cx="84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把一个整亿的数改写成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亿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作单位的数，就是去掉这个数末尾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在后面加上一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亿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字。原数和改写的数中间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连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32"/>
          <p:cNvSpPr/>
          <p:nvPr/>
        </p:nvSpPr>
        <p:spPr>
          <a:xfrm>
            <a:off x="277920" y="1023840"/>
            <a:ext cx="8448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写数时，首先观察这个数含有几个数级，然后看各级上有哪些数，最后对照数位顺序表从高位写起。哪个数位上一个单位也没有，就在那个数位上写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52:30Z</dcterms:modified>
  <cp:revision>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